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AA75-D5F9-450A-801C-A3D393485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1606-5372-4A92-A3F5-31606529F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E466-46D0-4E11-A53C-B97F12167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A4F6-E9CC-4DE3-ADDB-712E196CF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BF560-EF0C-44BB-A063-4E12A30EF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281DA-C19F-424C-A151-E9AA174E4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BE47A-EF6E-4F0C-8D68-38C58D9EE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9AF38-962A-49ED-A29B-66FA39437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A6CF3-DC98-4A70-912D-569D820E8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AD27E-C6E7-44C6-BA0F-A1675D062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4E085-19CF-4CAD-B62E-2F359C558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5D7A-A79E-4F81-AAD4-E7C02C91E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EA7E1-2A84-4940-B22F-5A0230129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12932-45A7-4548-8884-0B3B04100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A3DC6-B083-4B6F-B78D-874F0E3E7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026E8-9713-464B-BBC8-0088A60DC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C962C-1447-4795-9839-FE9FA43BD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FD4D-8065-43A2-ADCA-406727434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5F74-6989-4A85-9626-69E99F17B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3B74-5131-4803-BCB9-8585FDCD2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7C8B-6531-48CD-BA76-E7F7A029B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DD76-5CDF-477E-A21E-2A2EC62B4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760F-F407-4127-8E09-10B36F06D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1146-BEA7-44EC-B1B5-9421D20DA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D5FDB-C27B-42B4-94AD-3779BB9FF829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6D4C8-E2F5-49A1-9319-D85D4546B905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중추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초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2" name="00425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5500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굴림"/>
              </a:rPr>
              <a:t>(ongoing feedback)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차폐잡음에 의해 자신들의 청각 피드백을 방해받을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경차단 주사로 촉각을 방해할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러면 단지 구어산출의 미미한 방해만 일어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을 기계적으로 방해함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계에 영향을 주는 것으로 추정되는 신경차단을 통해서 실험적으로 장애를 일으킬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중추신경계에 관한 지식에 근거하여 중추 내적 피드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ntral internal feedback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방식이 제안되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충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motor impuls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대뇌피질을 떠나자마자 중추신경계에서 그 신경충격을 모니터한다는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는 이전에 저장된 형식에 근거하여 그 시스템의 신경충격이 말초부에 이르기 전에 그 자체를 수정할 수 있다는 것을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증하지는 못하였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복잡하고도 그럴듯한 이론체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r>
              <a:rPr b="0" lang="en-US" sz="28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타인의 모델에 따라 자신의 출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산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결합시키기 위해 청각 피드백을 사용하여 구어를 습득하기 시작할 것이라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대신 혀의 공간지각 피드백을 사용하는 방향으로 점진적인 변화가 일어나서 청각은 다른 목적으로 사용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두개의 시스템은 얼마동안은 거의 동시에 작용하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신호와 혀의 공간지각 신호 사이에 방해가 있으면 단어가 깨어지는 원인이 되기도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이 구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 연속을 모니터하는 일을 맡고 있다고 가정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맡고 있는 과중한 부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overload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은 감소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모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말하는 성인은 자신의 구어를 소위 체감으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mastethically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하는 것으로 생각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피드백 시스템들의 장애와 말더듬의 비율에 관한 효과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로 청각 및 촉각 시스템에 초점을 두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높임 → 말더듬 비율이 감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이 비정상적인 청각 피드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정상적인 청각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시스템의 기능을 잘못되지 못하도록 하기 때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비정상적인 음향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coustic reflex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경우는 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어떤 형태의 청각 지연 피드백을 가지고 있다는 사실도 증명하지 못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에서의 변화가 말더듬의 비율에 다소 영향을 미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롬바르드 효과의 영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롬바르드 효과</a:t>
            </a:r>
            <a:r>
              <a:rPr b="0" lang="en-US" sz="4000" spc="-1" strike="noStrike">
                <a:solidFill>
                  <a:srgbClr val="ffcc66"/>
                </a:solidFill>
                <a:latin typeface="굴림"/>
              </a:rPr>
              <a:t>(Lombard effect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들이 소음이 있는 곳에서 말할 때 음성을 높이는 경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지연 청각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화 후 몇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늦게 이어폰을 통해서 피드백시킬 때 구어의 청각 피드백에서 일어나는 지연을 말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화자의 유창성이 방해받는 경향이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건하에서 정상적인 구어와 말더듬 사이에 유사성이 있다는 것을 추론하면서 이러한 현상을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인공적인 말더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청각 피드백 시스템이 방해를 받은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방식으로 인공적인 지연 조건하에서 정상화자의 깨어짐과 비슷한 구어의 깨어짐을 일으킨다는 것을 고찰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정상화자의 산출과 말더듬이의 구어 형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사여부에 대한 논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의 왜곡 때문에 말더듬이가 된 사례는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많은 연구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이가 증가함에 따라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아동들의 유창성을 방해할 가능성이 더 많다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DAF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결과가 주는 시사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린 아동들이 청각 피드백에 매우 의존적이라는 생각과는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구어에 대한 피드백이 중요한 청각 통로에서 공간지각 통로로 변경될 때 시작된다는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주장과도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여러 가지 시간 지연을 이용한 연구들에서 어린 아동들이 청각 피드백에 보다 더 많이 의존한다고 보고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어린 화자들에게 있어 중요한 것이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들이 성숙함에 따라 청각 피드백에 덜 의존한다는 것은 보다 더 자세한 연구에서 밝혀질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말더듬에 대한 이론적인 이슈를 밝히지 못하였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원인에 관해서도 우리가 아는 지식에 보탬이 된 것이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말할 때 일반적으로 말하는 심한 성인 말더듬이들에게서 병리적인 비유창성이 감소하였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임상적 치료 기법을 하나 더 발견한 결과가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 시간이 길면 길수록 덜 유창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피드백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혀의 공간지각보다는 청각 통로에 초점을 두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구강부위를 마취시킨 후 구어를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과 심한 정도가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 결과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말초 구어 메커니즘의 피드백에 매우 의존하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감각 피드백 상실의 결과로서 생긴 말더듬은 보상적인 구강 제스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mpensatory oral gestur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의해 폐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block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감소시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이 증가된 이유는 구어산출 운동 시스템의 마취에 의한 침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filtra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인할 수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 그것에 의해 구어산출을 위한 말더듬이의 노력이 방해를 받을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NS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영향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알아차릴 수 있을 정도의 뇌손상이나 대뇌지배의 혼란을 보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과 정상인들 사이의 언어수행에 있어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이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CNS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통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tegr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반영한다는 주장을 인정한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에게 확실히 어떤 결핍이 있다는 증거가 될 것이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의 차이는 말초에서 일어나는 여러 일들을 반영하는 것일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메커니즘은 상당히 광범위하게 연구되었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공간지각에 관한 연구는 거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청각 메커니즘이나 청각 피드백이 정상인들의 것과 다르다고 주장할 만한 충분한 자료가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과 공간지각 피드백에 대해서도 자료가 거의 없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판단을 내리기는 부족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뇌반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CN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어떤 가벼운 이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생리학의 시간 맞추기에 미묘한 영향 미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를 바꾸면 말더듬이 일어난다거나 말더듬이 고쳐진다고는 생각되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생리학에 관한 최근의 생각은 치료에 증후적인 접근방법을 지지하는 쪽으로 나아가게 하였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구어산출 체계의 다양한 수준에서 구어 생리협응이 좋지 못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또 시간맞추기 오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mis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나타내는 연구들과 더불어 반응시간에 관한 연구에서는 말더듬이가 복잡한 구어 행위를 협응하기 위해서 더 많은 시간이 필요하다는 것을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의 속도를 낮추는 것이 한가지 치료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시스템과 관련하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경로를 조작하면 유창성을 효과적으로 통제할 수 있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과 지연청각 피드백 모두가 이러한 목적으로 광범위하게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두 기법이 어떻게 작용하여 말더듬을 감소시키는지 정확한 방식은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을 넣으면 음성의 강도를 증가시키며 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증가시킴으로써 음절을 길게 빼고 구어 비율을 감소시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중추신경계 기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다운증후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신지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정상적 높은 비율의 말더듬이들 보고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병리적인 비유창성의 증후가 말더듬과는 다르다는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어떤 유형의 대뇌 손상으로 영향 여부 결정은 혼동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EEG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를 집중적으로 검토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수의 말더듬이가 뇌파이상을 나타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Bloodstein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똑같은 영역을 검토하여 두 가지 결론을 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 잠재성이 정상이라는 경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대뇌병리가 있다고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충분한 확증을 받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집단이 어떤 형태의 대뇌손상을 가지고 있다는 것은 불명확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한 음성강도를 증가시키고 구어비율을 감소시키는 결과를 가져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 음절을 연장함으로써 말하는 비율을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0msec,  ...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씩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기법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을 감소시키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율통제를 증가시키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국에는 다른 상황으로 새로운 형태를 전이시키기 위한 다른 절차들과 결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유창성을 개선시키는 효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-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Van Riper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유창성 형성 기법을 주장하는 사람들과는 달리 사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에 구어의 혀의 공간지각에 초점을 두도록 격려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Ryan(1971): 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에서 시작하여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로 감소시켜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까지 나아가는 방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근전도 생체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일어나는 구어 근육 활동에 대한 정보를 다시 전달하기 위해 사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는 말을 하는 동안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들의 활동량을 감소시킴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에서 긴장도의 양을 촉각 및 공간 지각적 모니터링을 이용함으로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화되는 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VU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미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약해지는 빛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조정할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Guitar(1975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여러 가지 음의 피드백이 작동할 때 말과 관계된 근육들 특히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술과 후두 근육의 활동을 감소시키기 위해 세 명의 말더듬이들을 훈련시킨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 비율이 전반적으로 감소되는 것을 경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피험자에게 보다 더 집중적인 연구를 계속하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일어나기 전에 근육 활동을 감소시키는 것을 배우게 되었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후 최소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월 동안 습득한 유창성을 유지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느슨한 조음접촉의 효과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loose articulatory contact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이나 음성을 긴장되고 힘겹게 시작하는 것보다 좋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동 형태를 변화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에 대한 소위 다른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습득시키려는 노력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촉각적 피드백과 공간지각적 피드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과 연합시키기 위해서 바람직한 감각으로서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인식하도록 학습하는 방법으로 변화되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에 대한 뇌반구 지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와 구어산출이 좌뇌반구의 지배를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Ortorn(1927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Travis(1931)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측지배를 받지 않을까 하는 의문을 제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경쟁을 하고 있는 반구들이 구어산출에 책임이 있는 근육들에 신경충격이 유연하게 전달되는 것을 방해한 결과로 말더듬이의 구어를 깨뜨리는 원인이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han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와 측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i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연구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Ortorn-Travi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대뇌지배 이론을 지지하지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ada tes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지배 이론에 대한 관심의 결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dium amytal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용액을 경동맥 속에 주입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험자가 말을 하고 있을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반구가 구어를 지배하고 있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 용액을 주입한 반구를 거쳐서 순환할 때 구어가 방해를 받는다는 것을 제시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 모두가 구어에 대해 한 측이 우월하다는 것을 관찰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손상인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양측 반구의 통제를 받는 것으로 나타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서 평가한 말더듬이들에게서 양측 대뇌지배를 받는 사례는 나타나지 않았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지배의 역할에 대한 지식을 확립시키려는 노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어폰으로 양 귀에 서로 다른 말로 자극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극을 기억해 내는 과업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보다 우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자극을 보고하는 피험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측 귀가 훨씬 더 좋은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REA)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보다는 훨씬 많은 연구가 행해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두 집단 사이에 차이 발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urry &amp; Gregory(1969), Perrin &amp; Eisenson(1970), Sommers, Brady, &amp; Moore(1975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두 집단 사이에 우성 귀에서 유의한 차이를 발견하지 못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rf &amp; Prins(1974), Quinn(1972), Rosenfield &amp; Goodglass(1980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분청취 자극의 제시에 대한 말더듬이들과 정상인들의 반응 사이에 유의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2%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REA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단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5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해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 말더듬이들에서는 구어기능이 불완전한 측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lateral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규모 연구에서 정상아동들과 말더듬 아동들의 이분청취 과업에서 반응의 차이를 발견하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가 말더듬의 생리학적인 요인에 대한 연구에 거의 도움이 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) Moore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적 과업을 하는 동안에 대뇌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리듬을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정상인들과 비교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에서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반응이 감소되는 현상 발견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현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뇌활동이 불균형이라는 것을 시사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인 자극을 제시한 후 가능한 빨리 근육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이나 손의 움직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통해 반응하도록 요구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문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청각계에 문제가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계를 사용함으로써 청각계의 문제를 교묘하게 회피하는 것으로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특정한 주파수와 강도 수준에서 어떤 음을 청각 자극으로 제시하였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크린 위에 후레쉬 불빛을 비추어 그 불빛을 시각 자극으로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 자극을 듣거나 보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모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로 반응하는 속도를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극을 멈추었을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험자가 반응을 멈추는 속도도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많은 말더듬이들이 정상인들보다 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 신호에 상관없이 발성을 시작하는 반응시간이 더 느리다는 사실에는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정상인들보다 비구어적인 구강 동작이나 후두 동작 반응과 손동작 반응도 느렸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반응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신경계적인 설명보다는 후두근육조직의 문제로 설명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의 반응시간이 더 느린 것은 중추신경계의 통합이 좋지 못한 것을 반영하는 것일 수도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피드백 메커니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기제의 개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기통제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서보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종의 자동제어장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servomechanism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를 위해 사용한 용어인 인공두뇌학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ybernetic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초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시 오류가 발생 → 오류가 원래의 소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urse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돌아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 내에서 조정할 수 있도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 →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잘못된 출력이 교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과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peech scientists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이 존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인의 구어 및 언어의 발달 단계에서 존재하여 왔다고 가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병리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개념에 관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개념은 병리적인 구어산출을 설명할 수도 있으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방법을 제공하기도 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은 어떤 화자가 구어를 모니터하는 능력과 관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와 같은 피드백은 청각적인 통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골도나 기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 촉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propriocep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나 중추신경 피드백을 통해서 제공가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01:21:46Z</dcterms:created>
  <dc:creator>황규탁</dc:creator>
  <dc:description/>
  <dc:language>en-US</dc:language>
  <cp:lastModifiedBy>user</cp:lastModifiedBy>
  <dcterms:modified xsi:type="dcterms:W3CDTF">2014-01-03T00:57:15Z</dcterms:modified>
  <cp:revision>11</cp:revision>
  <dc:subject/>
  <dc:title>생리학적인 요인</dc:title>
</cp:coreProperties>
</file>