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FC39D9-1B82-466E-8BE2-005DA6DD7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99403D-6D89-4FC6-9AF2-98B9E5423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3D6DEF-D1A0-4437-812E-EAAB9E469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1F9F47-FD14-4EFD-8690-9A54FE5FF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3927A-9144-45D6-8C25-D4F1CDAEC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7460F-3232-4D7D-AE42-4AC1E65EB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B5989-704E-4BDE-B1D9-66C6ACCE9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EA141-3540-49D5-9A66-B1ADCBF69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9ADA9-087E-4F50-AADB-4A5428CE5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4DFD8-E2B4-4DBF-B87F-4E9EE229E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E555C-AD08-4B58-96B1-C32FC93F7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326B5E-5BA5-4E4B-A42E-1FB66674E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D8927-020F-4F01-8210-B39AC8E6F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17880-EF42-4864-A310-B41316F04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92124-ED8E-470B-B374-E0125482D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E27E2-3987-4340-B513-4845C458B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B194F-71A8-4756-88DE-80CE9FE90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680153-F134-4D98-9983-1221EEDE8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6E8B7E-894F-4088-AA28-00E68AC2B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A11D1E-0A80-4909-8AD7-13D7B6A39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8BBEB1-9FFB-421F-B85A-6F3D56667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C59C5F-3A17-4F8A-9162-870304249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737444-713D-4F24-9392-9FBD28284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5F1A12-3D2D-41FE-AA5E-7466A330B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52C7B-9841-4948-A9D7-DDF89ACE41B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B9551-9D41-423E-96BF-D7417F6DFFE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dfdef6"/>
                </a:solidFill>
                <a:latin typeface="굴림"/>
              </a:rPr>
              <a:t>캐슈도료 </a:t>
            </a:r>
            <a:r>
              <a:rPr b="0" lang="ko-KR" sz="54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도료의 장점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목재와 금속에 대한 부착력이 좋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차량이나 목공용 밑바탕 도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구의 도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제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밥상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목기 등의 코팅에 많이 쓰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건조 도막은 내용제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耐溶劑性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 커서 다른 많은 도료를 겹쳐서 사용가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격이 싸고 사용법이 간단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0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500"/>
                            </p:stCondLst>
                            <p:childTnLst>
                              <p:par>
                                <p:cTn id="22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1" dur="500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5" dur="500"/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500"/>
                            </p:stCondLst>
                            <p:childTnLst>
                              <p:par>
                                <p:cTn id="23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9" dur="500"/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2000"/>
                            </p:stCondLst>
                            <p:childTnLst>
                              <p:par>
                                <p:cTn id="24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3" dur="500"/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2500"/>
                            </p:stCondLst>
                            <p:childTnLst>
                              <p:par>
                                <p:cTn id="24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7" dur="500"/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" descr=""/>
          <p:cNvPicPr/>
          <p:nvPr/>
        </p:nvPicPr>
        <p:blipFill>
          <a:blip r:embed="rId1"/>
          <a:stretch/>
        </p:blipFill>
        <p:spPr>
          <a:xfrm>
            <a:off x="468360" y="1052640"/>
            <a:ext cx="8218440" cy="446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0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" descr=""/>
          <p:cNvPicPr/>
          <p:nvPr/>
        </p:nvPicPr>
        <p:blipFill>
          <a:blip r:embed="rId1"/>
          <a:stretch/>
        </p:blipFill>
        <p:spPr>
          <a:xfrm>
            <a:off x="395280" y="1197000"/>
            <a:ext cx="8207280" cy="453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0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의 특징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00%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천연도료 유해물질이 포함되지 않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천연 옻칠처럼 내후성에 약한 결점을 보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캐슈의 역겨운 냄새와 독성을 대부분 제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붓 도장 시 기포가 잘 일어나지 않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79" dur="500"/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83" dur="500"/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1500"/>
                            </p:stCondLst>
                            <p:childTnLst>
                              <p:par>
                                <p:cTn id="28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87" dur="500"/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2000"/>
                            </p:stCondLst>
                            <p:childTnLst>
                              <p:par>
                                <p:cTn id="28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91" dur="500"/>
                                        <p:tgtEl>
                                          <p:spTgt spid="5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다른 도료와의 차이점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이 강하고 단단하며 탄력성이 있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을 두껍게 올릴 수 있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물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칼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약품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열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저온에 강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연건조 혹은 가열건조가 가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0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500"/>
                            </p:stCondLst>
                            <p:childTnLst>
                              <p:par>
                                <p:cTn id="30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03" dur="500"/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000"/>
                            </p:stCondLst>
                            <p:childTnLst>
                              <p:par>
                                <p:cTn id="30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07" dur="500"/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1500"/>
                            </p:stCondLst>
                            <p:childTnLst>
                              <p:par>
                                <p:cTn id="30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1" dur="500"/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000"/>
                            </p:stCondLst>
                            <p:childTnLst>
                              <p:par>
                                <p:cTn id="31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5" dur="500"/>
                                        <p:tgtEl>
                                          <p:spTgt spid="5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도료의 성능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이 강하고 단단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질기고 탄력성이 있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을 두껍게 올릴 수 있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물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酸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칼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약품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열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저온에 강하고 방청성능도 뛰어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연 건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열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Baking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건조가 가능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500"/>
                            </p:stCondLst>
                            <p:childTnLst>
                              <p:par>
                                <p:cTn id="32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27" dur="500"/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1000"/>
                            </p:stCondLst>
                            <p:childTnLst>
                              <p:par>
                                <p:cTn id="32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1" dur="500"/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1500"/>
                            </p:stCondLst>
                            <p:childTnLst>
                              <p:par>
                                <p:cTn id="33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5" dur="500"/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3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9" dur="500"/>
                                        <p:tgtEl>
                                          <p:spTgt spid="5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2500"/>
                            </p:stCondLst>
                            <p:childTnLst>
                              <p:par>
                                <p:cTn id="34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43" dur="500"/>
                                        <p:tgtEl>
                                          <p:spTgt spid="5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도료의 건조구조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23640" y="1628640"/>
            <a:ext cx="8351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방 법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공기 중에 산화중합하여 자연건조 혹은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          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소부 건조한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구 분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연건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소부건조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지촉건조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간내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분간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경화건조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5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간내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20℃/30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분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 160℃/20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장 방법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붓 도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스프레이도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0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55" dur="500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000"/>
                            </p:stCondLst>
                            <p:childTnLst>
                              <p:par>
                                <p:cTn id="35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59" dur="500"/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1500"/>
                            </p:stCondLst>
                            <p:childTnLst>
                              <p:par>
                                <p:cTn id="36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3" dur="500"/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2000"/>
                            </p:stCondLst>
                            <p:childTnLst>
                              <p:par>
                                <p:cTn id="3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7" dur="500"/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2500"/>
                            </p:stCondLst>
                            <p:childTnLst>
                              <p:par>
                                <p:cTn id="36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71" dur="500"/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3000"/>
                            </p:stCondLst>
                            <p:childTnLst>
                              <p:par>
                                <p:cTn id="37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75" dur="500"/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향 후 전 망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캐슈도료의 원조로써 최대기술보유국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동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선박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목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철재 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.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많은 산업에 응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최대수요국가이기도 한 일본을 공략 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0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000"/>
                            </p:stCondLst>
                            <p:childTnLst>
                              <p:par>
                                <p:cTn id="38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87" dur="500"/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1500"/>
                            </p:stCondLst>
                            <p:childTnLst>
                              <p:par>
                                <p:cTn id="38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91" dur="500"/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2000"/>
                            </p:stCondLst>
                            <p:childTnLst>
                              <p:par>
                                <p:cTn id="39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95" dur="500"/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5" name="" descr=""/>
          <p:cNvPicPr/>
          <p:nvPr/>
        </p:nvPicPr>
        <p:blipFill>
          <a:blip r:embed="rId1"/>
          <a:stretch/>
        </p:blipFill>
        <p:spPr>
          <a:xfrm>
            <a:off x="468360" y="1125360"/>
            <a:ext cx="8207280" cy="4537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0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" descr=""/>
          <p:cNvPicPr/>
          <p:nvPr/>
        </p:nvPicPr>
        <p:blipFill>
          <a:blip r:embed="rId1"/>
          <a:stretch/>
        </p:blipFill>
        <p:spPr>
          <a:xfrm>
            <a:off x="539640" y="836640"/>
            <a:ext cx="8136000" cy="475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0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열대성 식물인 옻나무과 캐슈의 과실 껍질에 함유되어 있는 액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(Cashew Nut Shell Liquid)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을 주원료로 한 유성도료를 말한다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천연산 옻과 비슷한 성질로 합성 칠도료라고도 한다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캐슈도료의 정의</a:t>
            </a: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" dur="500"/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" dur="500"/>
                                        <p:tgtEl>
                                          <p:spTgt spid="5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" descr=""/>
          <p:cNvPicPr/>
          <p:nvPr/>
        </p:nvPicPr>
        <p:blipFill>
          <a:blip r:embed="rId1"/>
          <a:stretch/>
        </p:blipFill>
        <p:spPr>
          <a:xfrm>
            <a:off x="395280" y="1052640"/>
            <a:ext cx="8207280" cy="460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0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캐슈도료의 역사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1939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년 일본의 캐슈회사에서 최초개발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제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차 세계 대전으로  중단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1950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년 전후 본격적 도료개발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r>
              <a:rPr b="1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" dur="500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0" dur="500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500"/>
                            </p:stCondLst>
                            <p:childTnLst>
                              <p:par>
                                <p:cTn id="4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4" dur="500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000"/>
                            </p:stCondLst>
                            <p:childTnLst>
                              <p:par>
                                <p:cTn id="46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8" dur="500"/>
                                        <p:tgtEl>
                                          <p:spTgt spid="5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캐슈나무란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?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쌍떡잎나무 무환자 나무목 옻나무과의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상록 소과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분류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옻나무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원산지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아메리카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브라질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열대지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크기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높이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10~15m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아메리카 열대지방이 원산지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자바 말레이시아등 전세계 열대지방에서 재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0" dur="500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4" dur="500"/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500"/>
                            </p:stCondLst>
                            <p:childTnLst>
                              <p:par>
                                <p:cTn id="66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8" dur="500"/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2" dur="500"/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500"/>
                            </p:stCondLst>
                            <p:childTnLst>
                              <p:par>
                                <p:cTn id="7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6" dur="500"/>
                                        <p:tgtEl>
                                          <p:spTgt spid="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3000"/>
                            </p:stCondLst>
                            <p:childTnLst>
                              <p:par>
                                <p:cTn id="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80" dur="500"/>
                                        <p:tgtEl>
                                          <p:spTgt spid="5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1" name="" descr=""/>
          <p:cNvPicPr/>
          <p:nvPr/>
        </p:nvPicPr>
        <p:blipFill>
          <a:blip r:embed="rId1"/>
          <a:stretch/>
        </p:blipFill>
        <p:spPr>
          <a:xfrm>
            <a:off x="539640" y="2133720"/>
            <a:ext cx="8136000" cy="4030560"/>
          </a:xfrm>
          <a:prstGeom prst="rect">
            <a:avLst/>
          </a:prstGeom>
          <a:ln w="0">
            <a:noFill/>
          </a:ln>
        </p:spPr>
      </p:pic>
      <p:sp>
        <p:nvSpPr>
          <p:cNvPr id="522" name=""/>
          <p:cNvSpPr/>
          <p:nvPr/>
        </p:nvSpPr>
        <p:spPr>
          <a:xfrm>
            <a:off x="1258920" y="692280"/>
            <a:ext cx="61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캐슈나무 열매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000"/>
                            </p:stCondLst>
                            <p:childTnLst>
                              <p:par>
                                <p:cTn id="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합성캐슈의 제조 방법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캐슈원액 → 산성백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규조토로 정제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온에서 포르말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페놀수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석탄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등을 작용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주성분인 카르단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카르돌과 중합되게 가공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데히드 → 점조성의 흑갈색 액체를 얻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500"/>
                            </p:stCondLst>
                            <p:childTnLst>
                              <p:par>
                                <p:cTn id="10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07" dur="500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1" dur="500"/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5" dur="500"/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9" dur="500"/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2500"/>
                            </p:stCondLst>
                            <p:childTnLst>
                              <p:par>
                                <p:cTn id="12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3" dur="500"/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3000"/>
                            </p:stCondLst>
                            <p:childTnLst>
                              <p:par>
                                <p:cTn id="12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7" dur="500"/>
                                        <p:tgtEl>
                                          <p:spTgt spid="5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합성캐슈도료의 첨가제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건조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의 성질 개선 위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  →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키드수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멜라민수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요소수지등을 첨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상온건조 가능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베이킹도료로도 사용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9" dur="500"/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3" dur="500"/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500"/>
                            </p:stCondLst>
                            <p:childTnLst>
                              <p:par>
                                <p:cTn id="14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7" dur="500"/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합성캐슈도료의 단점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64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천연 옻칠처럼 역시 내후성에 약한 최대결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품위나 질감 역시 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옻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에 비하여 월등히 떨어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중합된 포르말린과 페놀수지의 유해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장시에 완전건조는 옻보다 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온중합시 건조시간을 단축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연장을 불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색상이 어두워 조색이 어려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붓 도장시 기포 발생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59" dur="500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3" dur="500"/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5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000"/>
                            </p:stCondLst>
                            <p:childTnLst>
                              <p:par>
                                <p:cTn id="16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1" dur="500"/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2500"/>
                            </p:stCondLst>
                            <p:childTnLst>
                              <p:par>
                                <p:cTn id="17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5" dur="500"/>
                                        <p:tgtEl>
                                          <p:spTgt spid="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9" dur="500"/>
                                        <p:tgtEl>
                                          <p:spTgt spid="5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500"/>
                            </p:stCondLst>
                            <p:childTnLst>
                              <p:par>
                                <p:cTn id="18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3" dur="500"/>
                                        <p:tgtEl>
                                          <p:spTgt spid="5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 캐슈도료란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?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천연유성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=&gt;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캐슈넛트쉘액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Dammar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Sandalac,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송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오동나무기름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탈수한파마기름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잇꽃기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옻을 고온에서 중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성도료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=&gt;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오렌지 오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박하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발삼오일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5" dur="500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000"/>
                            </p:stCondLst>
                            <p:childTnLst>
                              <p:par>
                                <p:cTn id="19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9" dur="500"/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500"/>
                            </p:stCondLst>
                            <p:childTnLst>
                              <p:par>
                                <p:cTn id="20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3" dur="500"/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2000"/>
                            </p:stCondLst>
                            <p:childTnLst>
                              <p:par>
                                <p:cTn id="20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7" dur="500"/>
                                        <p:tgtEl>
                                          <p:spTgt spid="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2500"/>
                            </p:stCondLst>
                            <p:childTnLst>
                              <p:par>
                                <p:cTn id="20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1" dur="500"/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3000"/>
                            </p:stCondLst>
                            <p:childTnLst>
                              <p:par>
                                <p:cTn id="21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5" dur="500"/>
                                        <p:tgtEl>
                                          <p:spTgt spid="5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35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5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4T09:24:20Z</dcterms:created>
  <dc:creator>staff</dc:creator>
  <dc:description/>
  <dc:language>en-US</dc:language>
  <cp:lastModifiedBy>Daniel Yang</cp:lastModifiedBy>
  <dcterms:modified xsi:type="dcterms:W3CDTF">2009-09-13T09:10:03Z</dcterms:modified>
  <cp:revision>29</cp:revision>
  <dc:subject/>
  <dc:title>천연 캐슈 도료</dc:title>
</cp:coreProperties>
</file>